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8.png" ContentType="image/png"/>
  <Override PartName="/ppt/media/image8.png" ContentType="image/png"/>
  <Override PartName="/ppt/media/image33.png" ContentType="image/png"/>
  <Override PartName="/ppt/media/image16.wmf" ContentType="image/x-wmf"/>
  <Override PartName="/ppt/media/image13.png" ContentType="image/png"/>
  <Override PartName="/ppt/media/image34.png" ContentType="image/png"/>
  <Override PartName="/ppt/media/image12.jpeg" ContentType="image/jpeg"/>
  <Override PartName="/ppt/media/image2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35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6.png" ContentType="image/png"/>
  <Override PartName="/ppt/media/image5.wmf" ContentType="image/x-wmf"/>
  <Override PartName="/ppt/media/image27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7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4825" cy="96297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29C9-DBCA-40DA-8DBA-380879CA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4FA5-8577-4611-8946-76CA6847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7BE8-B72D-42DA-856B-E19717370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8E05-1C76-4D24-9083-EDE0C25D8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41CD-56F0-4E32-B27A-A5AC401D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0496-BB58-46B7-B8E4-5B77D14E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3A9F-FD82-47CE-BC57-AD339AFE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B5FF-70E3-4A46-933F-CC2EC012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09D8-8FC0-4FA8-8F71-7DF53EE2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F197-CFA2-4148-A7C6-5BF46E14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DBB8-036D-445B-9642-B8286553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D2E1-0336-4D17-881F-6E801EB2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C2FF-676E-46D5-A01C-35AA5EA2B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medicine.com/cgi-bin/foxweb.exe/makezoom@/em/makezoom?picture=/websites/emedicine/orthoped/images/Large/782782Image06.jpg&amp;template=izoom2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emedicine.com/cgi-bin/foxweb.exe/makezoom@/em/makezoom?picture=/websites/emedicine/orthoped/images/Large/75figure_1.jpg&amp;template=izoom2" TargetMode="External"/><Relationship Id="rId2" Type="http://schemas.openxmlformats.org/officeDocument/2006/relationships/hyperlink" Target="http://www.emedicine.com/cgi-bin/foxweb.exe/makezoom@/em/makezoom?picture=/websites/emedicine/orthoped/images/Large/76figure_2.jpg&amp;template=izoom2" TargetMode="External"/><Relationship Id="rId3" Type="http://schemas.openxmlformats.org/officeDocument/2006/relationships/hyperlink" Target="http://www.emedicine.com/cgi-bin/foxweb.exe/makezoom@/em/makezoom?picture=/websites/emedicine/orthoped/images/Large/75figure_1.jpg&amp;template=izoom2" TargetMode="External"/><Relationship Id="rId4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ANIFESTATIONS RHUMATOLOGIQUES DE LA MALADIE DIABET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. NIAM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vice de Médecine Inter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Hôpital Militaire Avicenne.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APSULITE RÉTRACT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Épaule bloquée par rétraction capsulai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Fréque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66"/>
                </a:solidFill>
                <a:latin typeface="Times New Roman"/>
              </a:rPr>
              <a:t>10 %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(diabète) vs </a:t>
            </a:r>
            <a:r>
              <a:rPr b="1" lang="fr-FR" sz="1800" spc="-1" strike="noStrike">
                <a:solidFill>
                  <a:srgbClr val="ffff66"/>
                </a:solidFill>
                <a:latin typeface="Times New Roman"/>
              </a:rPr>
              <a:t>2,5%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(population général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(Pal B</a:t>
            </a:r>
            <a:r>
              <a:rPr b="0" i="1" lang="fr-FR" sz="1400" spc="-1" strike="noStrike">
                <a:solidFill>
                  <a:srgbClr val="ffff00"/>
                </a:solidFill>
                <a:latin typeface="Times New Roman"/>
              </a:rPr>
              <a:t>.  </a:t>
            </a:r>
            <a:r>
              <a:rPr b="0" i="1" lang="en-US" sz="1400" spc="-1" strike="noStrike">
                <a:solidFill>
                  <a:srgbClr val="ffff00"/>
                </a:solidFill>
                <a:latin typeface="Times New Roman"/>
              </a:rPr>
              <a:t>J Orthop Rheumatol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, 1996, 9, 22-27)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Observée dans </a:t>
            </a:r>
            <a:r>
              <a:rPr b="1" lang="fr-FR" sz="1800" spc="-1" strike="noStrike">
                <a:solidFill>
                  <a:srgbClr val="ffff66"/>
                </a:solidFill>
                <a:latin typeface="Times New Roman"/>
              </a:rPr>
              <a:t>50 %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des patients atteints de 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(Poirier JL. </a:t>
            </a:r>
            <a:r>
              <a:rPr b="0" i="1" lang="fr-FR" sz="1400" spc="-1" strike="noStrike">
                <a:solidFill>
                  <a:srgbClr val="ffff00"/>
                </a:solidFill>
                <a:latin typeface="Times New Roman"/>
              </a:rPr>
              <a:t>Rev Rhum,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 1989, 56, 511-517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Elle peut révéler un diabète de I ou I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Clini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Stéréotypée avec 3 phases : douleur, raideur puis gué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Dominée par une limitation de l’ensemble des mobilités actives et passives de l’articulation scapulo-humér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La raideur est invalidan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Élévation antérieure et l’abduction ( &lt; 90° ),  </a:t>
            </a: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la rotation externe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 ( &lt; 10-15° ) et la rotation interne ( &lt; 90° 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Se distinguent par une évolution souvent bilatérale, récurrente et plus prolongée 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          Griggs SM. </a:t>
            </a:r>
            <a:r>
              <a:rPr b="0" i="1" lang="fr-FR" sz="1400" spc="-1" strike="noStrike">
                <a:solidFill>
                  <a:srgbClr val="ffff00"/>
                </a:solidFill>
                <a:latin typeface="Times New Roman"/>
              </a:rPr>
              <a:t>J Bone Joint Surg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, 2000, 82, 1398-1407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VS et CRP sont norm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Radiograph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ouvent normales, parfois déminéralis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iagnostic différentie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Arthrite septique,  ++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Arthrose de l’épaul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équelle de fractur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Ostéochondromatos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PP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Hémarthrose ……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cintigraphie : normale dans 30 % des cas, parfois fixation de la tête humérale ou de la capsule uniqu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rthrographie : diagnostic de certitude : baisse de la capacité et augmentation de la pression de remplissage de la cavité articulaire &lt;10 ml ( VN: 20- 30 ml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010280" y="76320"/>
            <a:ext cx="205740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raitement médical 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Repos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antalgiq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s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AIN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ont peu effica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calcitonin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n’est efficace que pour les formes douloureu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s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infiltration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ont efficaces sur la doule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rééduca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est le traitement de référence 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hysiothérapie à visée antalgiqu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bilisation douce dans le respect de l’indolenc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ermettant un gain de mobilité lent mais progressif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nq premiers jours (M. passive) : 2 séances ( 1 H) par jo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mier mois  (M. passive) : 1 séance par jour ( 5 jours/7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uxième mois  (M. active) : ( 2 fois / semaines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7680" y="5632560"/>
            <a:ext cx="8524800" cy="833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A l’état natif, la peau est souple et flexible, alors qu’elle se rigidifie après son dépècement et son séchage. Grâce à de longues heures de tannage (rééducation), elle peut retrouver une certaine souplesse la rendant plus utilisable.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McLaughlin</a:t>
            </a: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44200" y="5095800"/>
            <a:ext cx="1694160" cy="3070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Times New Roman"/>
              </a:rPr>
              <a:t>Protocole de Liot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1"/>
          </p:cNvPr>
          <p:cNvSpPr/>
          <p:nvPr/>
        </p:nvSpPr>
        <p:spPr>
          <a:xfrm>
            <a:off x="1157400" y="2666880"/>
            <a:ext cx="6838920" cy="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Times New Roman"/>
              </a:rPr>
              <a:t>Les traitements « agressifs » 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Techniques réservées aux formes sévères et handicapantes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00"/>
                </a:solidFill>
                <a:latin typeface="Times New Roman"/>
              </a:rPr>
              <a:t>La distension capsulaire: </a:t>
            </a:r>
            <a:r>
              <a:rPr b="0" i="1" lang="fr-FR" sz="1400" spc="-1" strike="noStrike">
                <a:solidFill>
                  <a:srgbClr val="ffff00"/>
                </a:solidFill>
                <a:latin typeface="Times New Roman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injection sous pression de sérum salé au cours d’une arthrographie, suivie d’une infiltration et d’une rééducation préco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00"/>
                </a:solidFill>
                <a:latin typeface="Times New Roman"/>
              </a:rPr>
              <a:t>Capsulotomie chirurgicale sous arthroscop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fr-FR" sz="1400" spc="-1" strike="noStrike">
                <a:solidFill>
                  <a:srgbClr val="ffff00"/>
                </a:solidFill>
                <a:latin typeface="Times New Roman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00"/>
                </a:solidFill>
                <a:latin typeface="Times New Roman"/>
              </a:rPr>
              <a:t>Manipulation sous AG </a:t>
            </a:r>
            <a:r>
              <a:rPr b="0" i="1" lang="fr-FR" sz="1400" spc="-1" strike="noStrike">
                <a:solidFill>
                  <a:srgbClr val="ffff00"/>
                </a:solidFill>
                <a:latin typeface="Times New Roman"/>
              </a:rPr>
              <a:t>(2)</a:t>
            </a:r>
            <a:r>
              <a:rPr b="0" i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Inconvéni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Aucune étude ne montre leur supériorité sur la rééducation seu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ont efficaces à court terme, mais à long terme les résultats se confondent avec l’évolution naturelle de la capsulite rétracti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39480" y="6188040"/>
            <a:ext cx="416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1: Noel E. </a:t>
            </a:r>
            <a:r>
              <a:rPr b="0" i="1" lang="fr-FR" sz="1400" spc="-1" strike="noStrike">
                <a:solidFill>
                  <a:srgbClr val="ffff00"/>
                </a:solidFill>
                <a:latin typeface="Times New Roman"/>
              </a:rPr>
              <a:t>Rev Rhum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, 1996, 62 :70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2: Ogilvie-Harris DJ</a:t>
            </a:r>
            <a:r>
              <a:rPr b="0" i="1" lang="fr-FR" sz="1400" spc="-1" strike="noStrike">
                <a:solidFill>
                  <a:srgbClr val="ffff00"/>
                </a:solidFill>
                <a:latin typeface="Times New Roman"/>
              </a:rPr>
              <a:t>. Clin Orthop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, 1995, 319, 238-24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lusieurs études ont montré une corrélation de la capsulite rétractile avec 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L’ancienneté du diabè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L’existence de complications diabétiques : rétinopathie et néphropathie. </a:t>
            </a:r>
            <a:r>
              <a:rPr b="0" lang="fr-FR" sz="1200" spc="-1" strike="noStrike">
                <a:solidFill>
                  <a:srgbClr val="ffff00"/>
                </a:solidFill>
                <a:latin typeface="Times New Roman"/>
              </a:rPr>
              <a:t>( Escalante A. </a:t>
            </a:r>
            <a:r>
              <a:rPr b="0" i="1" lang="fr-FR" sz="1200" spc="-1" strike="noStrike">
                <a:solidFill>
                  <a:srgbClr val="ffff00"/>
                </a:solidFill>
                <a:latin typeface="Times New Roman"/>
              </a:rPr>
              <a:t>Arthritis Care Res</a:t>
            </a:r>
            <a:r>
              <a:rPr b="0" lang="fr-FR" sz="1200" spc="-1" strike="noStrike">
                <a:solidFill>
                  <a:srgbClr val="ffff00"/>
                </a:solidFill>
                <a:latin typeface="Times New Roman"/>
              </a:rPr>
              <a:t>, 1999, 12, 277-286)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iens avec l’algodystrophie: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66"/>
                </a:solidFill>
                <a:latin typeface="Times New Roman"/>
              </a:rPr>
              <a:t>Étude histologique :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prolifération de fibroblastes et de myoblastes identique à celle de la maladie de dupuytren et aux formes fibrosantes d’algodystroph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Lésions vasculaires similaires à la microangiopathie diabétiq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066680" y="3048120"/>
          <a:ext cx="7467840" cy="1515960"/>
        </p:xfrm>
        <a:graphic>
          <a:graphicData uri="http://schemas.openxmlformats.org/drawingml/2006/table">
            <a:tbl>
              <a:tblPr/>
              <a:tblGrid>
                <a:gridCol w="2489400"/>
                <a:gridCol w="2489040"/>
                <a:gridCol w="2489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sulite rétract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godystroph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hase chau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s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és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éminéralis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ogè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uchet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ixation à la scintigraph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lis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tend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lciton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effic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fic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ALADIE DE DUPUYTREN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670800" y="3429000"/>
            <a:ext cx="23968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’est un épaississement fibreux de l’aponévrose palmai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ni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dule et bride fibreuse qui limitent l’extension de la MC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ltérieurement, l’atteinte s’entend aux doigts conduisant à un flessu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s lésion prédominent sur 4, 5 et 3 rayon. L’atteinte du médius et du pouce est ra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’atteinte bilatérale s’observe dans la moitié des c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32080" y="446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0" y="4548240"/>
          <a:ext cx="8915400" cy="70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48240"/>
                    <a:ext cx="891540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119600" y="5116680"/>
            <a:ext cx="351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66"/>
                </a:solidFill>
                <a:latin typeface="Times New Roman"/>
              </a:rPr>
              <a:t>P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= atteinte palmaire, </a:t>
            </a:r>
            <a:r>
              <a:rPr b="1" lang="en-US" sz="1400" spc="-1" strike="noStrike">
                <a:solidFill>
                  <a:srgbClr val="ffff66"/>
                </a:solidFill>
                <a:latin typeface="Times New Roman"/>
              </a:rPr>
              <a:t>D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= atteinte digitale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32360" y="5653080"/>
            <a:ext cx="28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Classification de Tub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803680" y="560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2895480" cy="1874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2971800" cy="1827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04800" y="3048120"/>
            <a:ext cx="234036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tade précoce: ombilic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41320" y="5486400"/>
            <a:ext cx="150948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Forme nodulai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6120" y="3581280"/>
            <a:ext cx="4458600" cy="5644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e avec brides et flexion irréductible du doig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éficit d’extension = 60° ( Stade II) de Tubian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8720" y="498600"/>
            <a:ext cx="27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ormes cliniq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648320" y="762120"/>
            <a:ext cx="358272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38080" y="380880"/>
            <a:ext cx="7925040" cy="19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ssoci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ladie de la peyroni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ladie de Ledderhos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iroarthropathie: la MD est présente chez la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moitié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s diabétiques souffrant d’une CA et chez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21 %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s diabétiques sans C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80880" y="3505320"/>
            <a:ext cx="8381880" cy="1828800"/>
            <a:chOff x="380880" y="3505320"/>
            <a:chExt cx="8381880" cy="1828800"/>
          </a:xfrm>
        </p:grpSpPr>
        <p:grpSp>
          <p:nvGrpSpPr>
            <p:cNvPr id="90" name=""/>
            <p:cNvGrpSpPr/>
            <p:nvPr/>
          </p:nvGrpSpPr>
          <p:grpSpPr>
            <a:xfrm>
              <a:off x="386640" y="3507480"/>
              <a:ext cx="8369280" cy="1823400"/>
              <a:chOff x="386640" y="3507480"/>
              <a:chExt cx="8369280" cy="1823400"/>
            </a:xfrm>
          </p:grpSpPr>
          <p:grpSp>
            <p:nvGrpSpPr>
              <p:cNvPr id="91" name=""/>
              <p:cNvGrpSpPr/>
              <p:nvPr/>
            </p:nvGrpSpPr>
            <p:grpSpPr>
              <a:xfrm>
                <a:off x="386640" y="3507480"/>
                <a:ext cx="1801440" cy="342000"/>
                <a:chOff x="386640" y="3507480"/>
                <a:chExt cx="1801440" cy="34200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443520" y="3507480"/>
                  <a:ext cx="1686600" cy="342000"/>
                </a:xfrm>
                <a:prstGeom prst="rect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86640" y="3507480"/>
                  <a:ext cx="1801440" cy="342000"/>
                </a:xfrm>
                <a:prstGeom prst="rect">
                  <a:avLst/>
                </a:prstGeom>
                <a:noFill/>
                <a:ln w="0">
                  <a:solidFill>
                    <a:srgbClr val="ff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2188440" y="3507480"/>
                <a:ext cx="1932840" cy="342000"/>
                <a:chOff x="2188440" y="3507480"/>
                <a:chExt cx="1932840" cy="34200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2245320" y="3507480"/>
                  <a:ext cx="1818000" cy="342000"/>
                </a:xfrm>
                <a:prstGeom prst="rect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Rétinopathi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2188440" y="3507480"/>
                  <a:ext cx="1932840" cy="342000"/>
                </a:xfrm>
                <a:prstGeom prst="rect">
                  <a:avLst/>
                </a:prstGeom>
                <a:noFill/>
                <a:ln w="0">
                  <a:solidFill>
                    <a:srgbClr val="ff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4122000" y="3507480"/>
                <a:ext cx="2431440" cy="342000"/>
                <a:chOff x="4122000" y="3507480"/>
                <a:chExt cx="2431440" cy="34200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4179240" y="3507480"/>
                  <a:ext cx="2316960" cy="342000"/>
                </a:xfrm>
                <a:prstGeom prst="rect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ffffff"/>
                      </a:solidFill>
                      <a:latin typeface="Times New Roman"/>
                    </a:rPr>
                    <a:t>Polyneuropathi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4122000" y="3507480"/>
                  <a:ext cx="2431440" cy="342000"/>
                </a:xfrm>
                <a:prstGeom prst="rect">
                  <a:avLst/>
                </a:prstGeom>
                <a:noFill/>
                <a:ln w="0">
                  <a:solidFill>
                    <a:srgbClr val="ff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6553800" y="3507480"/>
                <a:ext cx="2201760" cy="342000"/>
                <a:chOff x="6553800" y="3507480"/>
                <a:chExt cx="2201760" cy="34200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6611400" y="3507480"/>
                  <a:ext cx="2086560" cy="342000"/>
                </a:xfrm>
                <a:prstGeom prst="rect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Néphropathi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553800" y="3507480"/>
                  <a:ext cx="2201760" cy="342000"/>
                </a:xfrm>
                <a:prstGeom prst="rect">
                  <a:avLst/>
                </a:prstGeom>
                <a:noFill/>
                <a:ln w="0">
                  <a:solidFill>
                    <a:srgbClr val="ff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386640" y="3849480"/>
                <a:ext cx="1801440" cy="493560"/>
                <a:chOff x="386640" y="3849480"/>
                <a:chExt cx="1801440" cy="49356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443520" y="3849480"/>
                  <a:ext cx="1686600" cy="493560"/>
                </a:xfrm>
                <a:prstGeom prst="rect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86640" y="3849480"/>
                  <a:ext cx="1801440" cy="493560"/>
                </a:xfrm>
                <a:prstGeom prst="rect">
                  <a:avLst/>
                </a:prstGeom>
                <a:noFill/>
                <a:ln w="0">
                  <a:solidFill>
                    <a:srgbClr val="ff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2188440" y="3849480"/>
                <a:ext cx="1152720" cy="493560"/>
                <a:chOff x="2188440" y="3849480"/>
                <a:chExt cx="1152720" cy="49356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2245320" y="3849480"/>
                  <a:ext cx="1038240" cy="493560"/>
                </a:xfrm>
                <a:prstGeom prst="rect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ff00"/>
                      </a:solidFill>
                      <a:latin typeface="Times New Roman"/>
                    </a:rPr>
                    <a:t>+ 12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188440" y="3849480"/>
                  <a:ext cx="1152720" cy="493560"/>
                </a:xfrm>
                <a:prstGeom prst="rect">
                  <a:avLst/>
                </a:prstGeom>
                <a:noFill/>
                <a:ln w="0">
                  <a:solidFill>
                    <a:srgbClr val="ff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3341880" y="3849480"/>
                <a:ext cx="779400" cy="493560"/>
                <a:chOff x="3341880" y="3849480"/>
                <a:chExt cx="779400" cy="49356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3398760" y="3849480"/>
                  <a:ext cx="664560" cy="493560"/>
                </a:xfrm>
                <a:prstGeom prst="rect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ff00"/>
                      </a:solidFill>
                      <a:latin typeface="Times New Roman"/>
                    </a:rPr>
                    <a:t>- 16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341880" y="3849480"/>
                  <a:ext cx="779400" cy="493560"/>
                </a:xfrm>
                <a:prstGeom prst="rect">
                  <a:avLst/>
                </a:prstGeom>
                <a:noFill/>
                <a:ln w="0">
                  <a:solidFill>
                    <a:srgbClr val="ff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4122000" y="3849480"/>
                <a:ext cx="1620720" cy="493560"/>
                <a:chOff x="4122000" y="3849480"/>
                <a:chExt cx="1620720" cy="49356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4179240" y="3849480"/>
                  <a:ext cx="1506240" cy="493560"/>
                </a:xfrm>
                <a:prstGeom prst="rect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ff00"/>
                      </a:solidFill>
                      <a:latin typeface="Times New Roman"/>
                    </a:rPr>
                    <a:t>+ 7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122000" y="3849480"/>
                  <a:ext cx="1620720" cy="493560"/>
                </a:xfrm>
                <a:prstGeom prst="rect">
                  <a:avLst/>
                </a:prstGeom>
                <a:noFill/>
                <a:ln w="0">
                  <a:solidFill>
                    <a:srgbClr val="ff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5743080" y="3849480"/>
                <a:ext cx="810360" cy="493560"/>
                <a:chOff x="5743080" y="3849480"/>
                <a:chExt cx="810360" cy="49356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5800680" y="3849480"/>
                  <a:ext cx="695520" cy="493560"/>
                </a:xfrm>
                <a:prstGeom prst="rect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ff00"/>
                      </a:solidFill>
                      <a:latin typeface="Times New Roman"/>
                    </a:rPr>
                    <a:t>-20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5743080" y="3849480"/>
                  <a:ext cx="810360" cy="493560"/>
                </a:xfrm>
                <a:prstGeom prst="rect">
                  <a:avLst/>
                </a:prstGeom>
                <a:noFill/>
                <a:ln w="0">
                  <a:solidFill>
                    <a:srgbClr val="ff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6553800" y="3849480"/>
                <a:ext cx="1391040" cy="493560"/>
                <a:chOff x="6553800" y="3849480"/>
                <a:chExt cx="13910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6611400" y="3849480"/>
                  <a:ext cx="1276200" cy="493560"/>
                </a:xfrm>
                <a:prstGeom prst="rect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ff00"/>
                      </a:solidFill>
                      <a:latin typeface="Times New Roman"/>
                    </a:rPr>
                    <a:t>+ 8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6553800" y="3849480"/>
                  <a:ext cx="1391040" cy="493560"/>
                </a:xfrm>
                <a:prstGeom prst="rect">
                  <a:avLst/>
                </a:prstGeom>
                <a:noFill/>
                <a:ln w="0">
                  <a:solidFill>
                    <a:srgbClr val="ff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7945560" y="3849480"/>
                <a:ext cx="810360" cy="493560"/>
                <a:chOff x="7945560" y="3849480"/>
                <a:chExt cx="810360" cy="49356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8002440" y="3849480"/>
                  <a:ext cx="695520" cy="493560"/>
                </a:xfrm>
                <a:prstGeom prst="rect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ff00"/>
                      </a:solidFill>
                      <a:latin typeface="Times New Roman"/>
                    </a:rPr>
                    <a:t>- 19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945560" y="3849480"/>
                  <a:ext cx="810360" cy="493560"/>
                </a:xfrm>
                <a:prstGeom prst="rect">
                  <a:avLst/>
                </a:prstGeom>
                <a:noFill/>
                <a:ln w="0">
                  <a:solidFill>
                    <a:srgbClr val="ff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386640" y="4343400"/>
                <a:ext cx="1801440" cy="493920"/>
                <a:chOff x="386640" y="4343400"/>
                <a:chExt cx="1801440" cy="4939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443520" y="4343400"/>
                  <a:ext cx="1686600" cy="493920"/>
                </a:xfrm>
                <a:prstGeom prst="rect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Times New Roman"/>
                    </a:rPr>
                    <a:t>CA 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86640" y="4343400"/>
                  <a:ext cx="1801440" cy="493920"/>
                </a:xfrm>
                <a:prstGeom prst="rect">
                  <a:avLst/>
                </a:prstGeom>
                <a:noFill/>
                <a:ln w="0">
                  <a:solidFill>
                    <a:srgbClr val="ff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2188440" y="4343400"/>
                <a:ext cx="1152720" cy="493920"/>
                <a:chOff x="2188440" y="4343400"/>
                <a:chExt cx="1152720" cy="49392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2245320" y="4343400"/>
                  <a:ext cx="1038240" cy="493920"/>
                </a:xfrm>
                <a:prstGeom prst="rect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Times New Roman"/>
                    </a:rPr>
                    <a:t>32,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188440" y="4343400"/>
                  <a:ext cx="1152720" cy="493920"/>
                </a:xfrm>
                <a:prstGeom prst="rect">
                  <a:avLst/>
                </a:prstGeom>
                <a:noFill/>
                <a:ln w="0">
                  <a:solidFill>
                    <a:srgbClr val="ff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3341880" y="4343400"/>
                <a:ext cx="779400" cy="493920"/>
                <a:chOff x="3341880" y="4343400"/>
                <a:chExt cx="779400" cy="49392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3398760" y="4343400"/>
                  <a:ext cx="664560" cy="493920"/>
                </a:xfrm>
                <a:prstGeom prst="rect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Times New Roman"/>
                    </a:rPr>
                    <a:t>2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341880" y="4343400"/>
                  <a:ext cx="779400" cy="493920"/>
                </a:xfrm>
                <a:prstGeom prst="rect">
                  <a:avLst/>
                </a:prstGeom>
                <a:noFill/>
                <a:ln w="0">
                  <a:solidFill>
                    <a:srgbClr val="ff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4122000" y="4343400"/>
                <a:ext cx="1620720" cy="493920"/>
                <a:chOff x="4122000" y="4343400"/>
                <a:chExt cx="1620720" cy="4939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179240" y="4343400"/>
                  <a:ext cx="1506240" cy="493920"/>
                </a:xfrm>
                <a:prstGeom prst="rect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Times New Roman"/>
                    </a:rPr>
                    <a:t>41,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122000" y="4343400"/>
                  <a:ext cx="1620720" cy="493920"/>
                </a:xfrm>
                <a:prstGeom prst="rect">
                  <a:avLst/>
                </a:prstGeom>
                <a:noFill/>
                <a:ln w="0">
                  <a:solidFill>
                    <a:srgbClr val="ff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5743080" y="4343400"/>
                <a:ext cx="810360" cy="493920"/>
                <a:chOff x="5743080" y="4343400"/>
                <a:chExt cx="810360" cy="4939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5800680" y="4343400"/>
                  <a:ext cx="695520" cy="493920"/>
                </a:xfrm>
                <a:prstGeom prst="rect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Times New Roman"/>
                    </a:rPr>
                    <a:t>20,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743080" y="4343400"/>
                  <a:ext cx="810360" cy="493920"/>
                </a:xfrm>
                <a:prstGeom prst="rect">
                  <a:avLst/>
                </a:prstGeom>
                <a:noFill/>
                <a:ln w="0">
                  <a:solidFill>
                    <a:srgbClr val="ff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6553800" y="4343400"/>
                <a:ext cx="1391040" cy="493920"/>
                <a:chOff x="6553800" y="4343400"/>
                <a:chExt cx="1391040" cy="4939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6611400" y="4343400"/>
                  <a:ext cx="1276200" cy="493920"/>
                </a:xfrm>
                <a:prstGeom prst="rect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Times New Roman"/>
                    </a:rPr>
                    <a:t>33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553800" y="4343400"/>
                  <a:ext cx="1391040" cy="493920"/>
                </a:xfrm>
                <a:prstGeom prst="rect">
                  <a:avLst/>
                </a:prstGeom>
                <a:noFill/>
                <a:ln w="0">
                  <a:solidFill>
                    <a:srgbClr val="ff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7945560" y="4343400"/>
                <a:ext cx="810360" cy="493920"/>
                <a:chOff x="7945560" y="4343400"/>
                <a:chExt cx="810360" cy="4939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8002440" y="4343400"/>
                  <a:ext cx="695520" cy="493920"/>
                </a:xfrm>
                <a:prstGeom prst="rect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Times New Roman"/>
                    </a:rPr>
                    <a:t>26,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945560" y="4343400"/>
                  <a:ext cx="810360" cy="493920"/>
                </a:xfrm>
                <a:prstGeom prst="rect">
                  <a:avLst/>
                </a:prstGeom>
                <a:noFill/>
                <a:ln w="0">
                  <a:solidFill>
                    <a:srgbClr val="ff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386640" y="4837320"/>
                <a:ext cx="1801440" cy="493560"/>
                <a:chOff x="386640" y="4837320"/>
                <a:chExt cx="1801440" cy="4935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443520" y="4837320"/>
                  <a:ext cx="1686600" cy="493560"/>
                </a:xfrm>
                <a:prstGeom prst="rect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00"/>
                      </a:solidFill>
                      <a:latin typeface="Times New Roman"/>
                    </a:rPr>
                    <a:t>Dupuytren 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86640" y="4837320"/>
                  <a:ext cx="1801440" cy="493560"/>
                </a:xfrm>
                <a:prstGeom prst="rect">
                  <a:avLst/>
                </a:prstGeom>
                <a:noFill/>
                <a:ln w="0">
                  <a:solidFill>
                    <a:srgbClr val="ff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2188440" y="4837320"/>
                <a:ext cx="1152720" cy="493560"/>
                <a:chOff x="2188440" y="4837320"/>
                <a:chExt cx="1152720" cy="49356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2245320" y="4837320"/>
                  <a:ext cx="1038240" cy="493560"/>
                </a:xfrm>
                <a:prstGeom prst="rect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00"/>
                      </a:solidFill>
                      <a:latin typeface="Times New Roman"/>
                    </a:rPr>
                    <a:t>43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188440" y="4837320"/>
                  <a:ext cx="1152720" cy="493560"/>
                </a:xfrm>
                <a:prstGeom prst="rect">
                  <a:avLst/>
                </a:prstGeom>
                <a:noFill/>
                <a:ln w="0">
                  <a:solidFill>
                    <a:srgbClr val="ff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3341880" y="4837320"/>
                <a:ext cx="779400" cy="493560"/>
                <a:chOff x="3341880" y="4837320"/>
                <a:chExt cx="779400" cy="49356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3398760" y="4837320"/>
                  <a:ext cx="664560" cy="493560"/>
                </a:xfrm>
                <a:prstGeom prst="rect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00"/>
                      </a:solidFill>
                      <a:latin typeface="Times New Roman"/>
                    </a:rPr>
                    <a:t>16,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341880" y="4837320"/>
                  <a:ext cx="779400" cy="493560"/>
                </a:xfrm>
                <a:prstGeom prst="rect">
                  <a:avLst/>
                </a:prstGeom>
                <a:noFill/>
                <a:ln w="0">
                  <a:solidFill>
                    <a:srgbClr val="ff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22000" y="4837320"/>
                <a:ext cx="1620720" cy="493560"/>
                <a:chOff x="4122000" y="4837320"/>
                <a:chExt cx="1620720" cy="4935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179240" y="4837320"/>
                  <a:ext cx="1506240" cy="493560"/>
                </a:xfrm>
                <a:prstGeom prst="rect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00"/>
                      </a:solidFill>
                      <a:latin typeface="Times New Roman"/>
                    </a:rPr>
                    <a:t>46,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122000" y="4837320"/>
                  <a:ext cx="1620720" cy="493560"/>
                </a:xfrm>
                <a:prstGeom prst="rect">
                  <a:avLst/>
                </a:prstGeom>
                <a:noFill/>
                <a:ln w="0">
                  <a:solidFill>
                    <a:srgbClr val="ff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5743080" y="4837320"/>
                <a:ext cx="810360" cy="493560"/>
                <a:chOff x="5743080" y="4837320"/>
                <a:chExt cx="810360" cy="49356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5800680" y="4837320"/>
                  <a:ext cx="695520" cy="493560"/>
                </a:xfrm>
                <a:prstGeom prst="rect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00"/>
                      </a:solidFill>
                      <a:latin typeface="Times New Roman"/>
                    </a:rPr>
                    <a:t>2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743080" y="4837320"/>
                  <a:ext cx="810360" cy="493560"/>
                </a:xfrm>
                <a:prstGeom prst="rect">
                  <a:avLst/>
                </a:prstGeom>
                <a:noFill/>
                <a:ln w="0">
                  <a:solidFill>
                    <a:srgbClr val="ff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6553800" y="4837320"/>
                <a:ext cx="1391040" cy="493560"/>
                <a:chOff x="6553800" y="4837320"/>
                <a:chExt cx="1391040" cy="49356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6611400" y="4837320"/>
                  <a:ext cx="1276200" cy="493560"/>
                </a:xfrm>
                <a:prstGeom prst="rect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00"/>
                      </a:solidFill>
                      <a:latin typeface="Times New Roman"/>
                    </a:rPr>
                    <a:t>32,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53800" y="4837320"/>
                  <a:ext cx="1391040" cy="493560"/>
                </a:xfrm>
                <a:prstGeom prst="rect">
                  <a:avLst/>
                </a:prstGeom>
                <a:noFill/>
                <a:ln w="0">
                  <a:solidFill>
                    <a:srgbClr val="ff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7945560" y="4837320"/>
                <a:ext cx="810360" cy="493560"/>
                <a:chOff x="7945560" y="4837320"/>
                <a:chExt cx="810360" cy="49356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8002440" y="4837320"/>
                  <a:ext cx="695520" cy="493560"/>
                </a:xfrm>
                <a:prstGeom prst="rect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00"/>
                      </a:solidFill>
                      <a:latin typeface="Times New Roman"/>
                    </a:rPr>
                    <a:t>27,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945560" y="4837320"/>
                  <a:ext cx="810360" cy="493560"/>
                </a:xfrm>
                <a:prstGeom prst="rect">
                  <a:avLst/>
                </a:prstGeom>
                <a:noFill/>
                <a:ln w="0">
                  <a:solidFill>
                    <a:srgbClr val="ff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6" name=""/>
            <p:cNvSpPr/>
            <p:nvPr/>
          </p:nvSpPr>
          <p:spPr>
            <a:xfrm>
              <a:off x="380880" y="3505320"/>
              <a:ext cx="8381880" cy="1828800"/>
            </a:xfrm>
            <a:prstGeom prst="rect">
              <a:avLst/>
            </a:prstGeom>
            <a:noFill/>
            <a:ln w="11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526680" y="5943600"/>
            <a:ext cx="845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Corrélation de la CA et de la MD avec les complications dégénératives du diabète sucré ( n=280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Bergaoui N. </a:t>
            </a:r>
            <a:r>
              <a:rPr b="0" i="1" lang="fr-FR" sz="1400" spc="-1" strike="noStrike">
                <a:solidFill>
                  <a:srgbClr val="ffff00"/>
                </a:solidFill>
                <a:latin typeface="Times New Roman"/>
              </a:rPr>
              <a:t>Rev Rhum,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 1991 ; 58 (3), 179-181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66"/>
                </a:solidFill>
                <a:latin typeface="Times New Roman"/>
              </a:rPr>
              <a:t>Affections associées au diabète de manière certain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Cheiroarthropath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Capsulite rétractile de l’épa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Maladie de Dupuytr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Phénomène de doigt à ressau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Syndrome du canal carpie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66"/>
                </a:solidFill>
                <a:latin typeface="Times New Roman"/>
              </a:rPr>
              <a:t>Manifestations rhumatologiques associées de manière incertaine au diabè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Maladie de Forestier et enthésopath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Arthro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Autres: Polyarthrite rhumatoïde, Pseudo syndrome de Sjögren, goutte…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66"/>
                </a:solidFill>
                <a:latin typeface="Times New Roman"/>
              </a:rPr>
              <a:t>Complications infectieus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66"/>
                </a:solidFill>
                <a:latin typeface="Times New Roman"/>
              </a:rPr>
              <a:t>Ostéoporose et diabè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66"/>
                </a:solidFill>
                <a:latin typeface="Times New Roman"/>
              </a:rPr>
              <a:t>Pied diabétique (exclu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699880" y="1600200"/>
            <a:ext cx="3067200" cy="86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drome de restri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mobilité articulaire ( SRM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114300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raitement médic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Infiltr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’hydrocortiso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ous pression dans les cordes et nodules peut apporter des résultats probants entre des mains expertes, au prix d’un nombre élevé d’injections très douloureu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L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utr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médicament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n’ont pas apporté la preuve de leur efficacité : vitamine E, allopurinol,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olchici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cupuncture, physiothérapi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’injection de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collagénas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st en cours d’étu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00"/>
                </a:solidFill>
                <a:latin typeface="Times New Roman"/>
              </a:rPr>
              <a:t>Aponévrotomie à l’aiguille :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C’est une technique ambulatoi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Après désinfection, on injecte dans et à coté de la corde 1 à 3 ml d’un mélange de 4 ml de xylocaïne et 1 ml d’hydrocortancyl avec une aiguille  16- 5/10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ection percutanée des brides aponévrotiques à l’aide du biseau de l’aiguil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Mouvements de va et vient en s’aidant de l’extension énergique du doig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Port d’une orthèse nocturne pendant un moi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Plusieurs séances sont parfois nécessaires selon les stades de Tubi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Cette technique nécessite un opérateur expériment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Accidents 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rupture tendineuse ( 0,1 %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lésion d’un nerf collatéral ( 5 %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Traitement chirurgical 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ponevrectomie s’entendant sur les doigts par incisions digito-palmaires longitudinales avec parfois une greffe de peau tot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38520" y="365760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Avant interven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51120" y="6400800"/>
            <a:ext cx="134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Greffe cutané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248520" y="640080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J + 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342840" y="36576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Aponevrectom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38080" y="2077920"/>
            <a:ext cx="3505320" cy="15796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334120" y="2057400"/>
            <a:ext cx="3200400" cy="16002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609480" y="4756320"/>
            <a:ext cx="3473640" cy="15541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4648320" y="4746600"/>
            <a:ext cx="358128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Indications 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Formes nodulaires : infilt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Formes diffuses 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Aponévrotomie à l’aguille si sujet âgé ou terrain à risq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controverse entre aponévrotomie à l’aiguille et traitement chirurgic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5280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85800" y="3870360"/>
            <a:ext cx="3886200" cy="17906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11004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800600" y="4122720"/>
            <a:ext cx="4114800" cy="13939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326920" y="6019920"/>
            <a:ext cx="352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Lermusiaux JL. </a:t>
            </a:r>
            <a:r>
              <a:rPr b="0" i="1" lang="fr-FR" sz="1400" spc="-1" strike="noStrike">
                <a:solidFill>
                  <a:srgbClr val="ffff00"/>
                </a:solidFill>
                <a:latin typeface="Times New Roman"/>
              </a:rPr>
              <a:t>Rev Rhum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, 2001, 68, 542-547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2285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YNDROME DU CANAL CARPI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743880" y="3568680"/>
            <a:ext cx="23238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36680" y="471600"/>
            <a:ext cx="863424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diopathique dans 50 % des 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l est observé chez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7 à 25 %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des diabétiques V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4 %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dans la population généra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ette fréquence passe à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33 - 40 %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en de cheiroarthropathie stade II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3640" y="1946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04920" y="1981080"/>
          <a:ext cx="8153280" cy="169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81080"/>
                    <a:ext cx="815328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5235840" y="3668760"/>
            <a:ext cx="38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Chammas M. </a:t>
            </a:r>
            <a:r>
              <a:rPr b="0" i="1" lang="en-US" sz="1400" spc="-1" strike="noStrike">
                <a:solidFill>
                  <a:srgbClr val="ffff00"/>
                </a:solidFill>
                <a:latin typeface="Times New Roman"/>
              </a:rPr>
              <a:t>J Hand Surg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, 1995, 20 A, 109-11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4343400"/>
            <a:ext cx="86868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Le CC peut correspondre à un épaississement des tissus conjonctifs ou à une neuropath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La recherche systématique d’un diabète n’est pas nécessaire devant des symptômes de C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                    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Pal B. </a:t>
            </a:r>
            <a:r>
              <a:rPr b="0" i="1" lang="en-US" sz="1400" spc="-1" strike="noStrike">
                <a:solidFill>
                  <a:srgbClr val="ffff00"/>
                </a:solidFill>
                <a:latin typeface="Times New Roman"/>
              </a:rPr>
              <a:t>Br J Rheumatol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, 1986, 25, 412-413.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Traite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iltration de corticoï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re tendon grand et petit palmai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mbre: 1 à 2 ( intervalle de 6 moi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epsie +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mobilis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Traitement chirurgic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throscopie ou à ciel ouv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esthésies très gên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lications nerveuses (déficit ou amyotrophi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G: CC ou neuropathie diabétiq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715000" y="2222640"/>
            <a:ext cx="3327480" cy="16635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248520" y="5029200"/>
            <a:ext cx="279396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IGT À RESSAUT 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rId1"/>
          </p:cNvPr>
          <p:cNvSpPr/>
          <p:nvPr/>
        </p:nvSpPr>
        <p:spPr>
          <a:xfrm>
            <a:off x="1157400" y="2714760"/>
            <a:ext cx="6838920" cy="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rId2"/>
          </p:cNvPr>
          <p:cNvSpPr/>
          <p:nvPr/>
        </p:nvSpPr>
        <p:spPr>
          <a:xfrm>
            <a:off x="1157400" y="2714760"/>
            <a:ext cx="6838920" cy="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rId3"/>
          </p:cNvPr>
          <p:cNvSpPr/>
          <p:nvPr/>
        </p:nvSpPr>
        <p:spPr>
          <a:xfrm>
            <a:off x="1157400" y="2714760"/>
            <a:ext cx="6838920" cy="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’est une ténosynovite sténosa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agnostic est faci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igt bloqué en flexion, le patient rapporte que l’extension forcée est possible mais très douloureus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le correspond au passage en force d’un nodule tendineux fibreux dans la gaine du fléchisseur du doigt corresponda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 pouce, le médius et l’annulaire sont les doigts les plus souvent touché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 traitement repose sur l’infiltration de la gaine du fléchisseur et seulement en cas d’échec, à la chirurg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 fréquence est d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- 10 %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hez le diabétiqu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990720" y="4702320"/>
            <a:ext cx="2819160" cy="2079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105520" y="4713120"/>
            <a:ext cx="281916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75960" y="127080"/>
            <a:ext cx="8991720" cy="5671440"/>
            <a:chOff x="75960" y="127080"/>
            <a:chExt cx="8991720" cy="5671440"/>
          </a:xfrm>
        </p:grpSpPr>
        <p:sp>
          <p:nvSpPr>
            <p:cNvPr id="204" name=""/>
            <p:cNvSpPr/>
            <p:nvPr/>
          </p:nvSpPr>
          <p:spPr>
            <a:xfrm>
              <a:off x="2398680" y="127080"/>
              <a:ext cx="1160640" cy="276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yperglycémi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960" y="785880"/>
              <a:ext cx="807120" cy="276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Glycoly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59320" y="785880"/>
              <a:ext cx="1563120" cy="4590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Times New Roman"/>
                </a:rPr>
                <a:t>Voie du sorbit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fr-FR" sz="1200" spc="-1" strike="noStrike">
                  <a:solidFill>
                    <a:srgbClr val="ffffff"/>
                  </a:solidFill>
                  <a:latin typeface="Times New Roman"/>
                </a:rPr>
                <a:t>et aldolase réducta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34920" y="785880"/>
              <a:ext cx="1101240" cy="4590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Times New Roman"/>
                </a:rPr>
                <a:t>Glycation n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Times New Roman"/>
                </a:rPr>
                <a:t>enzymatiq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948920" y="858960"/>
              <a:ext cx="1235160" cy="276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Auto- oxyd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283480" y="2687760"/>
              <a:ext cx="2116080" cy="27648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ff00"/>
                  </a:solidFill>
                  <a:latin typeface="Times New Roman"/>
                </a:rPr>
                <a:t>Production de radicaux lib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57200" y="3921120"/>
              <a:ext cx="5486400" cy="4590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Augmentation d’agencement croisé du collagène ( Cross- linkag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Accumulation de fibres de collagène  inflexibles dans les tiss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869840" y="1347840"/>
              <a:ext cx="85572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Glucose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fructose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sorbit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10760" y="1660680"/>
              <a:ext cx="2433240" cy="641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Times New Roman"/>
                </a:rPr>
                <a:t>Produits terminaux de la gly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66"/>
                  </a:solidFill>
                  <a:latin typeface="Times New Roman"/>
                </a:rPr>
                <a:t>Réaction de Mailla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Times New Roman"/>
                </a:rPr>
                <a:t>Protéines hétérocycliqu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27240" y="3279600"/>
              <a:ext cx="463680" cy="3016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ff99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4" name=""/>
            <p:cNvCxnSpPr>
              <a:stCxn id="205" idx="2"/>
              <a:endCxn id="209" idx="1"/>
            </p:cNvCxnSpPr>
            <p:nvPr/>
          </p:nvCxnSpPr>
          <p:spPr>
            <a:xfrm flipH="1" rot="16200000">
              <a:off x="497520" y="1051200"/>
              <a:ext cx="1761480" cy="1797840"/>
            </a:xfrm>
            <a:prstGeom prst="bentConnector2">
              <a:avLst/>
            </a:prstGeom>
            <a:ln w="9360">
              <a:solidFill>
                <a:srgbClr val="ffff66"/>
              </a:solidFill>
              <a:miter/>
              <a:tailEnd len="med" type="triangle" w="med"/>
            </a:ln>
          </p:spPr>
        </p:cxnSp>
        <p:cxnSp>
          <p:nvCxnSpPr>
            <p:cNvPr id="215" name=""/>
            <p:cNvCxnSpPr>
              <a:stCxn id="207" idx="2"/>
              <a:endCxn id="212" idx="0"/>
            </p:cNvCxnSpPr>
            <p:nvPr/>
          </p:nvCxnSpPr>
          <p:spPr>
            <a:xfrm>
              <a:off x="4185720" y="1252440"/>
              <a:ext cx="142200" cy="408960"/>
            </a:xfrm>
            <a:prstGeom prst="straightConnector1">
              <a:avLst/>
            </a:prstGeom>
            <a:ln w="9360">
              <a:solidFill>
                <a:srgbClr val="ffff66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/>
            <p:nvPr/>
          </p:nvCxnSpPr>
          <p:spPr>
            <a:xfrm>
              <a:off x="2563560" y="1258920"/>
              <a:ext cx="1080" cy="1319760"/>
            </a:xfrm>
            <a:prstGeom prst="straightConnector1">
              <a:avLst/>
            </a:prstGeom>
            <a:ln w="9360">
              <a:solidFill>
                <a:srgbClr val="ffff66"/>
              </a:solidFill>
              <a:miter/>
              <a:tailEnd len="med" type="triangle" w="med"/>
            </a:ln>
          </p:spPr>
        </p:cxnSp>
        <p:cxnSp>
          <p:nvCxnSpPr>
            <p:cNvPr id="217" name=""/>
            <p:cNvCxnSpPr/>
            <p:nvPr/>
          </p:nvCxnSpPr>
          <p:spPr>
            <a:xfrm rot="5400000">
              <a:off x="4213800" y="1406520"/>
              <a:ext cx="1688400" cy="1161000"/>
            </a:xfrm>
            <a:prstGeom prst="bentConnector2">
              <a:avLst/>
            </a:prstGeom>
            <a:ln w="9360">
              <a:solidFill>
                <a:srgbClr val="ffff66"/>
              </a:solidFill>
              <a:miter/>
              <a:tailEnd len="med" type="triangle" w="med"/>
            </a:ln>
          </p:spPr>
        </p:cxnSp>
        <p:cxnSp>
          <p:nvCxnSpPr>
            <p:cNvPr id="218" name=""/>
            <p:cNvCxnSpPr>
              <a:stCxn id="204" idx="2"/>
              <a:endCxn id="205" idx="0"/>
            </p:cNvCxnSpPr>
            <p:nvPr/>
          </p:nvCxnSpPr>
          <p:spPr>
            <a:xfrm flipH="1">
              <a:off x="478800" y="410760"/>
              <a:ext cx="2500920" cy="3754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19" name=""/>
            <p:cNvCxnSpPr>
              <a:stCxn id="204" idx="2"/>
              <a:endCxn id="208" idx="0"/>
            </p:cNvCxnSpPr>
            <p:nvPr/>
          </p:nvCxnSpPr>
          <p:spPr>
            <a:xfrm>
              <a:off x="2979720" y="411120"/>
              <a:ext cx="2588040" cy="4485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0" name=""/>
            <p:cNvCxnSpPr>
              <a:stCxn id="204" idx="2"/>
              <a:endCxn id="206" idx="0"/>
            </p:cNvCxnSpPr>
            <p:nvPr/>
          </p:nvCxnSpPr>
          <p:spPr>
            <a:xfrm flipH="1">
              <a:off x="2540880" y="410760"/>
              <a:ext cx="438840" cy="3754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1" name=""/>
            <p:cNvCxnSpPr>
              <a:stCxn id="204" idx="2"/>
              <a:endCxn id="207" idx="0"/>
            </p:cNvCxnSpPr>
            <p:nvPr/>
          </p:nvCxnSpPr>
          <p:spPr>
            <a:xfrm>
              <a:off x="2979360" y="410760"/>
              <a:ext cx="1207080" cy="3754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22" name=""/>
            <p:cNvSpPr/>
            <p:nvPr/>
          </p:nvSpPr>
          <p:spPr>
            <a:xfrm>
              <a:off x="2244240" y="5338800"/>
              <a:ext cx="507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PHYSIOPATHOLOGIE DES SR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2"/>
              <a:endCxn id="209" idx="0"/>
            </p:cNvCxnSpPr>
            <p:nvPr/>
          </p:nvCxnSpPr>
          <p:spPr>
            <a:xfrm flipH="1">
              <a:off x="3340800" y="2309760"/>
              <a:ext cx="986760" cy="378720"/>
            </a:xfrm>
            <a:prstGeom prst="straightConnector1">
              <a:avLst/>
            </a:prstGeom>
            <a:ln w="9360">
              <a:solidFill>
                <a:srgbClr val="ffff66"/>
              </a:solidFill>
              <a:miter/>
              <a:tailEnd len="med" type="triangle" w="med"/>
            </a:ln>
          </p:spPr>
        </p:cxnSp>
        <p:pic>
          <p:nvPicPr>
            <p:cNvPr id="224" name="" descr=""/>
            <p:cNvPicPr/>
            <p:nvPr/>
          </p:nvPicPr>
          <p:blipFill>
            <a:blip r:embed="rId1"/>
            <a:stretch/>
          </p:blipFill>
          <p:spPr>
            <a:xfrm>
              <a:off x="5791320" y="1981080"/>
              <a:ext cx="3276360" cy="1704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1960" y="27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HEIROARTHROPATH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BETE ET RHUMATIS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aladie de Forestier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yperostose vertébrale ankylos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aladie ossifiante non inflammatoire des enthèses ( insertions des tendons, ligaments et capsul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iabète type I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évalence : 13 – 49 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linique: douleur et raid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3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Rach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Rachis cervical:  dysphag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Rachis dorsal et lombaire: compression nerveuse ou myélopathie +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3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quelette appendiculaire: arthrose + ossification des PM ( hanche, genou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3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Enthèses: sacro-iliaques § SPA, épine calcanée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80880" y="76320"/>
            <a:ext cx="1928880" cy="33526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895480" y="76320"/>
            <a:ext cx="1555920" cy="32763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4800600" y="76320"/>
            <a:ext cx="2122560" cy="32763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7051680" y="76320"/>
            <a:ext cx="2016000" cy="32763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6939000" y="3429000"/>
            <a:ext cx="2128680" cy="33526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58680" y="3733920"/>
            <a:ext cx="2608200" cy="30477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826920" y="304920"/>
          <a:ext cx="7643880" cy="3624120"/>
        </p:xfrm>
        <a:graphic>
          <a:graphicData uri="http://schemas.openxmlformats.org/drawingml/2006/table">
            <a:tbl>
              <a:tblPr/>
              <a:tblGrid>
                <a:gridCol w="1911600"/>
                <a:gridCol w="1911240"/>
                <a:gridCol w="1909800"/>
                <a:gridCol w="191124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yperostose vertébrale ankylosa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rthr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H = 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F= 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otal = 1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= 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 = 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= 1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 moy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afc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5.2+/-8.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afc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5.0+/-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afc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afc98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C ( Kg/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7.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6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bète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afc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afc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afc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afc9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Uricémie ( micromol/l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lt;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4872240" y="4076640"/>
            <a:ext cx="41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Times New Roman"/>
                <a:ea typeface="宋体"/>
              </a:rPr>
              <a:t>Kiss C.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0" i="1" lang="en-GB" sz="1400" spc="-1" strike="noStrike">
                <a:solidFill>
                  <a:srgbClr val="ffff00"/>
                </a:solidFill>
                <a:latin typeface="Times New Roman"/>
              </a:rPr>
              <a:t>Rheumatology</a:t>
            </a:r>
            <a:r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 (Oxford) 2002 Jan;41(1):27-3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1560" y="4952880"/>
            <a:ext cx="7277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thogénie: incon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ôle de l’hyperinsulinis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uline = puissant facteur de croissance (IGF-1) § acromégal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ôle ostéoformateur et dans le développement des ossific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chémie des enthè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rai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114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raitement symptomati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algiq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i- arthrosiques d’action l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ilt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vage articulai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ide Hyaluroni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éédu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114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raitement chirurgic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ression médull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ression radicul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hèse ( hanche, geno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rthr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Études contradictoi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’arthrose des genou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vent associée au diabète de type I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ôle de l’insulinopénie dans la formation des protéoglycanes et du collagè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ésit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throse des mains: aucun li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996440" y="6400800"/>
            <a:ext cx="400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Sturmer T. </a:t>
            </a:r>
            <a:r>
              <a:rPr b="0" i="1" lang="fr-FR" sz="1400" spc="-1" strike="noStrike">
                <a:solidFill>
                  <a:srgbClr val="ffff00"/>
                </a:solidFill>
                <a:latin typeface="Times New Roman"/>
              </a:rPr>
              <a:t>Scand J Rheumatol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, 2001, 30, 3, 169-17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477120" y="685800"/>
            <a:ext cx="2590560" cy="17985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791320" y="3962520"/>
            <a:ext cx="33019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olyarthrite rhumatoï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rrain HLA commun avec diabète de type II: DR4 et D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ssociation non confirmé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yndrome sec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ésent chez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25 %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des diabétiq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uropathie autono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out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ériarthrite de l’hypertriglycéridém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endinites calcifia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638680" y="4383000"/>
            <a:ext cx="342900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BÈTE ET INFECTIONS OSTÉO-ARTICULAI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abète= susceptibilité aux infect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pticémies: 11 à 30 % diabétiqu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 Staphylocoque et E. Coli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onisation de la peau et des muqueuses chez les diabétiques par le staphylocoq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rélation entre l’hyperglycémie et la survenue des infections: action néfaste sur phagocytose, chimiotactisme et bactéricidie des PN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5345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3300"/>
                </a:solidFill>
                <a:latin typeface="Times New Roman"/>
              </a:rPr>
              <a:t>Diabète et arthrite septiq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45 cas d’AS ( 1983-1999)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8 diabétiques: 17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Staphylocoque : 62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Infiltrations: 22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Étude prospective sur 3 an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Facteurs de risque de survenue d’infections articulair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Sur les 4907 inclu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37 cas d’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Diabète = facteur de risque </a:t>
            </a: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(OR = 3,3)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[1,1-10,1].</a:t>
            </a:r>
            <a:r>
              <a:rPr b="0" lang="fr-FR" sz="1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Times New Roman"/>
              </a:rPr>
              <a:t>                   </a:t>
            </a:r>
            <a:r>
              <a:rPr b="0" lang="fr-FR" sz="1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Kaandrop C.J. </a:t>
            </a:r>
            <a:r>
              <a:rPr b="0" i="1" lang="fr-FR" sz="1400" spc="-1" strike="noStrike">
                <a:solidFill>
                  <a:srgbClr val="ffff00"/>
                </a:solidFill>
                <a:latin typeface="Times New Roman"/>
              </a:rPr>
              <a:t>Arthritis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fr-FR" sz="1400" spc="-1" strike="noStrike">
                <a:solidFill>
                  <a:srgbClr val="ffff00"/>
                </a:solidFill>
                <a:latin typeface="Times New Roman"/>
              </a:rPr>
              <a:t>Rheum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, 1995, 38, 1819-182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523880" y="2133720"/>
          <a:ext cx="6096240" cy="177156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ta-analyse 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sé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quête 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F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érie (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 &gt;60 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bèt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ticothérapi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5250600" y="3962520"/>
            <a:ext cx="3882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66"/>
                </a:solidFill>
                <a:latin typeface="Times New Roman"/>
              </a:rPr>
              <a:t>1: Dubost JJ.. </a:t>
            </a:r>
            <a:r>
              <a:rPr b="0" i="1" lang="fr-FR" sz="1400" spc="-1" strike="noStrike">
                <a:solidFill>
                  <a:srgbClr val="ffff66"/>
                </a:solidFill>
                <a:latin typeface="Times New Roman"/>
              </a:rPr>
              <a:t>Rev</a:t>
            </a:r>
            <a:r>
              <a:rPr b="0" lang="fr-FR" sz="1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i="1" lang="fr-FR" sz="1400" spc="-1" strike="noStrike">
                <a:solidFill>
                  <a:srgbClr val="ffff66"/>
                </a:solidFill>
                <a:latin typeface="Times New Roman"/>
              </a:rPr>
              <a:t>Rhum</a:t>
            </a:r>
            <a:r>
              <a:rPr b="0" lang="fr-FR" sz="1400" spc="-1" strike="noStrike">
                <a:solidFill>
                  <a:srgbClr val="ffff66"/>
                </a:solidFill>
                <a:latin typeface="Times New Roman"/>
              </a:rPr>
              <a:t>, 2000,67, 1, 17-27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66"/>
                </a:solidFill>
                <a:latin typeface="Times New Roman"/>
              </a:rPr>
              <a:t>2:David-Chuassé J.</a:t>
            </a:r>
            <a:r>
              <a:rPr b="0" i="1" lang="fr-FR" sz="1400" spc="-1" strike="noStrike">
                <a:solidFill>
                  <a:srgbClr val="ffff66"/>
                </a:solidFill>
                <a:latin typeface="Times New Roman"/>
              </a:rPr>
              <a:t>Rev</a:t>
            </a:r>
            <a:r>
              <a:rPr b="0" lang="fr-FR" sz="1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i="1" lang="fr-FR" sz="1400" spc="-1" strike="noStrike">
                <a:solidFill>
                  <a:srgbClr val="ffff66"/>
                </a:solidFill>
                <a:latin typeface="Times New Roman"/>
              </a:rPr>
              <a:t>Rhum</a:t>
            </a:r>
            <a:r>
              <a:rPr b="0" lang="fr-FR" sz="1400" spc="-1" strike="noStrike">
                <a:solidFill>
                  <a:srgbClr val="ffff66"/>
                </a:solidFill>
                <a:latin typeface="Times New Roman"/>
              </a:rPr>
              <a:t>, 1981, 48, 69-7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66"/>
                </a:solidFill>
                <a:latin typeface="Times New Roman"/>
              </a:rPr>
              <a:t>3:El Hassani S. </a:t>
            </a:r>
            <a:r>
              <a:rPr b="0" i="1" lang="fr-FR" sz="1400" spc="-1" strike="noStrike">
                <a:solidFill>
                  <a:srgbClr val="ffff66"/>
                </a:solidFill>
                <a:latin typeface="Times New Roman"/>
              </a:rPr>
              <a:t>Rev Mar de Rhum</a:t>
            </a:r>
            <a:r>
              <a:rPr b="0" lang="fr-FR" sz="1400" spc="-1" strike="noStrike">
                <a:solidFill>
                  <a:srgbClr val="ffff66"/>
                </a:solidFill>
                <a:latin typeface="Times New Roman"/>
              </a:rPr>
              <a:t>, 2001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, 13, 17-2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574600" y="1066680"/>
            <a:ext cx="3225600" cy="5806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Asepsie +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Économie vis à vis des infiltr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57800" y="11145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20728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</a:rPr>
              <a:t>Plusieurs synonymes: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limited joint mobility syndrome, stiff hand syndrome,  syndrome de la main raide, main diabétique pseudo-sclérodermiqu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Décrite chez le initialement dans le diabète de type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</a:rPr>
              <a:t>Prévalence :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ffff00"/>
                </a:solidFill>
                <a:latin typeface="Times New Roman"/>
              </a:rPr>
              <a:t>8,4 et 58 %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vs </a:t>
            </a:r>
            <a:r>
              <a:rPr b="1" lang="fr-FR" sz="2000" spc="-1" strike="noStrike">
                <a:solidFill>
                  <a:srgbClr val="ffff00"/>
                </a:solidFill>
                <a:latin typeface="Times New Roman"/>
              </a:rPr>
              <a:t>14 %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dans la population norma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34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Les deux sexes, tous les âges, y compris les enfants où sa fréquence serait de 28 %.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( Grgic A. </a:t>
            </a:r>
            <a:r>
              <a:rPr b="0" i="1" lang="fr-FR" sz="1400" spc="-1" strike="noStrike">
                <a:solidFill>
                  <a:srgbClr val="ffff00"/>
                </a:solidFill>
                <a:latin typeface="Times New Roman"/>
              </a:rPr>
              <a:t>J. Pediatr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, 1976, 88,584-588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</a:rPr>
              <a:t>Cliniqu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la peau de la main à une apparence cireuse, épaissi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C’est une limitation non douloureuse de l’extension des MCP et des IP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Localisation:IPP du 5° doigt surtou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Affection souvent tolérée si bien que les patients sont surpris par l’intérêt de l’examinateur pour leurs m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Times New Roman"/>
              </a:rPr>
              <a:t>Diabète et pyomyosi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fection aiguë du mus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Muscles du tronc, hanch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Germe: staphylocoque (90%), streptocoq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lini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Phase invasive: douleurs musculaires isolé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Phase suppurative: syndrome infectieux, masse crépit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iagnost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Ponction de la masse musculai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Hémocultu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IRM et TDM: diagnostic préco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Enzymes musculaires: norm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Traitement :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ATB + drain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iagnostic différentiel: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ffff00"/>
                </a:solidFill>
                <a:latin typeface="Times New Roman"/>
              </a:rPr>
              <a:t>infarctus musc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Signes similai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Occlusion artérielle par une embolie athéromateu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Diagnostic: IRM (hyper signal T2) + biopsie musculai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Guérison spontané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193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S ET DIABE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76320" y="1015920"/>
            <a:ext cx="239400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abète et métabolisme osseu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Bas niveau de remodelag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ar dépression de la formation osseuse attribuée à l’insulinopén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arqueurs de remodel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Marqueurs de format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baisse de l’ostéocalci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Marqueurs de résorption: souvent augmenté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Perturbations du métabolisme Ph-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Hypercalciurie: diurèse osmotique + anomalies fonctionnelles de l’axe (PTH)- Vitamine D dont les valeurs restent norm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Effet propre de la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icroangiopath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sur le tissu osse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582520" y="6411960"/>
            <a:ext cx="334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Pouillès J.M. </a:t>
            </a:r>
            <a:r>
              <a:rPr b="0" i="1" lang="fr-FR" sz="1400" spc="-1" strike="noStrike">
                <a:solidFill>
                  <a:srgbClr val="ffff00"/>
                </a:solidFill>
                <a:latin typeface="Times New Roman"/>
              </a:rPr>
              <a:t>Rev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fr-FR" sz="1400" spc="-1" strike="noStrike">
                <a:solidFill>
                  <a:srgbClr val="ffff00"/>
                </a:solidFill>
                <a:latin typeface="Times New Roman"/>
              </a:rPr>
              <a:t>Rhum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, 2001, 68, 718-72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abète et D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iabète de type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isse de la DMO d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5 à 15 %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 Z score : - 0,5 à - 1,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rélation ave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cienneté de la malad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ésence de complications dégénérati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uvais contrôle glycémiq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énopau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 perte osseuse ralentit avec un meilleur contrôle glycémi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iabète de type II: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 études contradictoi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MO normale ou élevée ( effet de la surcharge pondéra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F(cohorte américaine): femmes diabétiques ont une perte osseuse fémorale plus rapi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04760" y="6421320"/>
            <a:ext cx="61491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fr-FR" sz="1400" spc="-1" strike="noStrike">
                <a:solidFill>
                  <a:srgbClr val="ffffff"/>
                </a:solidFill>
                <a:latin typeface="Times New Roman"/>
              </a:rPr>
              <a:t>Study of osteoporotic fractures. 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Schwartz AV</a:t>
            </a:r>
            <a:r>
              <a:rPr b="0" i="1" lang="fr-FR" sz="1400" spc="-1" strike="noStrike">
                <a:solidFill>
                  <a:srgbClr val="ffff00"/>
                </a:solidFill>
                <a:latin typeface="Times New Roman"/>
              </a:rPr>
              <a:t>. J. Bone Miner Res, 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2000, 15: 188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380880" y="228600"/>
            <a:ext cx="8382240" cy="6305760"/>
            <a:chOff x="380880" y="228600"/>
            <a:chExt cx="8382240" cy="6305760"/>
          </a:xfrm>
        </p:grpSpPr>
        <p:pic>
          <p:nvPicPr>
            <p:cNvPr id="264" name="" descr=""/>
            <p:cNvPicPr/>
            <p:nvPr/>
          </p:nvPicPr>
          <p:blipFill>
            <a:blip r:embed="rId1"/>
            <a:stretch/>
          </p:blipFill>
          <p:spPr>
            <a:xfrm>
              <a:off x="380880" y="228600"/>
              <a:ext cx="8296560" cy="38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380880" y="4735440"/>
              <a:ext cx="838224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Times New Roman"/>
                </a:rPr>
                <a:t>Évolution sur deux ans de la DMO dans le diabète type I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Times New Roman"/>
                </a:rPr>
                <a:t>Diabète type I : n= 54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Times New Roman"/>
                </a:rPr>
                <a:t>Témoins: n = 25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Times New Roman"/>
                </a:rPr>
                <a:t>Résultats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MO est plus basse chez les diabétiques / témoin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rte osseuse plus accélérée chez les diabétique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0" lang="fr-FR" sz="14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0" lang="fr-FR" sz="14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0" lang="fr-FR" sz="14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0" lang="fr-FR" sz="14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0" lang="fr-FR" sz="1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0" lang="fr-FR" sz="14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0" lang="fr-FR" sz="14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0" lang="fr-FR" sz="14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0" lang="fr-FR" sz="14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0" lang="fr-FR" sz="1400" spc="-1" strike="noStrike">
                  <a:solidFill>
                    <a:srgbClr val="ffff00"/>
                  </a:solidFill>
                  <a:latin typeface="Times New Roman"/>
                </a:rPr>
                <a:t>Miazgowski T. </a:t>
              </a:r>
              <a:r>
                <a:rPr b="0" i="1" lang="fr-FR" sz="1400" spc="-1" strike="noStrike">
                  <a:solidFill>
                    <a:srgbClr val="ffff00"/>
                  </a:solidFill>
                  <a:latin typeface="Times New Roman"/>
                </a:rPr>
                <a:t>Osteoporos</a:t>
              </a:r>
              <a:r>
                <a:rPr b="0" lang="fr-FR" sz="1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i="1" lang="fr-FR" sz="1400" spc="-1" strike="noStrike">
                  <a:solidFill>
                    <a:srgbClr val="ffff00"/>
                  </a:solidFill>
                  <a:latin typeface="Times New Roman"/>
                </a:rPr>
                <a:t>Int,</a:t>
              </a:r>
              <a:r>
                <a:rPr b="0" lang="fr-FR" sz="1400" spc="-1" strike="noStrike">
                  <a:solidFill>
                    <a:srgbClr val="ffff00"/>
                  </a:solidFill>
                  <a:latin typeface="Times New Roman"/>
                </a:rPr>
                <a:t> (1998) 8:399–4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593640" y="228600"/>
            <a:ext cx="8093160" cy="6023160"/>
            <a:chOff x="593640" y="228600"/>
            <a:chExt cx="8093160" cy="6023160"/>
          </a:xfrm>
        </p:grpSpPr>
        <p:pic>
          <p:nvPicPr>
            <p:cNvPr id="267" name="" descr=""/>
            <p:cNvPicPr/>
            <p:nvPr/>
          </p:nvPicPr>
          <p:blipFill>
            <a:blip r:embed="rId1"/>
            <a:stretch/>
          </p:blipFill>
          <p:spPr>
            <a:xfrm>
              <a:off x="1066680" y="228600"/>
              <a:ext cx="7162920" cy="45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593640" y="5305320"/>
              <a:ext cx="8093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Times New Roman"/>
                </a:rPr>
                <a:t>Comparaison de la DMO chez des femmes diabétiques et des témoin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Times New Roman"/>
                </a:rPr>
                <a:t>( Diabète type II) n = 65  / Témoins n = 4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Times New Roman"/>
                </a:rPr>
                <a:t>DMO élevée chez les diabétiques après ajustement sur âge et durée de MP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0" lang="fr-FR" sz="14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0" lang="fr-FR" sz="14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0" lang="fr-FR" sz="14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0" lang="fr-FR" sz="14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0" lang="fr-FR" sz="1400" spc="-1" strike="noStrike">
                  <a:solidFill>
                    <a:srgbClr val="ffff00"/>
                  </a:solidFill>
                  <a:latin typeface="Times New Roman"/>
                </a:rPr>
                <a:t>      </a:t>
              </a:r>
              <a:r>
                <a:rPr b="0" lang="fr-FR" sz="1400" spc="-1" strike="noStrike">
                  <a:solidFill>
                    <a:srgbClr val="ffff00"/>
                  </a:solidFill>
                  <a:latin typeface="Times New Roman"/>
                </a:rPr>
                <a:t>Isaia G.C.</a:t>
              </a:r>
              <a:r>
                <a:rPr b="0" i="1" lang="fr-FR" sz="1400" spc="-1" strike="noStrike">
                  <a:solidFill>
                    <a:srgbClr val="ffff00"/>
                  </a:solidFill>
                  <a:latin typeface="Times New Roman"/>
                </a:rPr>
                <a:t>Acta</a:t>
              </a:r>
              <a:r>
                <a:rPr b="0" lang="fr-FR" sz="1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i="1" lang="fr-FR" sz="1400" spc="-1" strike="noStrike">
                  <a:solidFill>
                    <a:srgbClr val="ffff00"/>
                  </a:solidFill>
                  <a:latin typeface="Times New Roman"/>
                </a:rPr>
                <a:t>Diabeteol</a:t>
              </a:r>
              <a:r>
                <a:rPr b="0" lang="fr-FR" sz="1400" spc="-1" strike="noStrike">
                  <a:solidFill>
                    <a:srgbClr val="ffff00"/>
                  </a:solidFill>
                  <a:latin typeface="Times New Roman"/>
                </a:rPr>
                <a:t>, 1999, 36, 35-38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abète et risque fractura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L’augmentation du risque fracturaire reste mal apprécié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Étude Mayo Clinic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Comparaison de 1000 diabétiques à 1000 témoi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Absence de risque fracturaire sauf pour pour les Fr. de la cheville et du tib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Heath H. </a:t>
            </a:r>
            <a:r>
              <a:rPr b="0" i="1" lang="fr-FR" sz="1400" spc="-1" strike="noStrike">
                <a:solidFill>
                  <a:srgbClr val="ffff00"/>
                </a:solidFill>
                <a:latin typeface="Times New Roman"/>
              </a:rPr>
              <a:t>N Eng J Med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, 1980, 303, 567-57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Cohorte norvégienne (étude longitudinale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Suivi de 35444 diabétiques âgés de plus de 50 ans sur une période de 9 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1643 nouvelles fractures de l’ES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RR X par </a:t>
            </a: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6,9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en cas de diabète de type I, par </a:t>
            </a: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1,9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pour le diabète de type I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RR X par </a:t>
            </a: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2,5 à 3,4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pour la fracture de la cheville et du pi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                   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Forsen L. </a:t>
            </a:r>
            <a:r>
              <a:rPr b="0" i="1" lang="fr-FR" sz="1400" spc="-1" strike="noStrike">
                <a:solidFill>
                  <a:srgbClr val="ffff00"/>
                </a:solidFill>
                <a:latin typeface="Times New Roman"/>
              </a:rPr>
              <a:t>Diabetologia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, 1999, 42,920-92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Au total, risque accru des fractures des MI même si la DMO n’est pas forcément abaissée: neuropathie, artériopathie, chutes fréqu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457200" y="76320"/>
            <a:ext cx="8460000" cy="6572160"/>
            <a:chOff x="457200" y="76320"/>
            <a:chExt cx="8460000" cy="6572160"/>
          </a:xfrm>
        </p:grpSpPr>
        <p:pic>
          <p:nvPicPr>
            <p:cNvPr id="272" name="" descr=""/>
            <p:cNvPicPr/>
            <p:nvPr/>
          </p:nvPicPr>
          <p:blipFill>
            <a:blip r:embed="rId1"/>
            <a:stretch/>
          </p:blipFill>
          <p:spPr>
            <a:xfrm>
              <a:off x="457200" y="76320"/>
              <a:ext cx="5816520" cy="657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2"/>
            <a:stretch/>
          </p:blipFill>
          <p:spPr>
            <a:xfrm>
              <a:off x="6629400" y="457200"/>
              <a:ext cx="1981080" cy="1049400"/>
            </a:xfrm>
            <a:prstGeom prst="rect">
              <a:avLst/>
            </a:prstGeom>
            <a:ln w="9360">
              <a:solidFill>
                <a:srgbClr val="ff9900"/>
              </a:solidFill>
              <a:miter/>
            </a:ln>
          </p:spPr>
        </p:pic>
        <p:sp>
          <p:nvSpPr>
            <p:cNvPr id="274" name=""/>
            <p:cNvSpPr/>
            <p:nvPr/>
          </p:nvSpPr>
          <p:spPr>
            <a:xfrm>
              <a:off x="6459480" y="1600200"/>
              <a:ext cx="2457720" cy="733320"/>
            </a:xfrm>
            <a:prstGeom prst="rect">
              <a:avLst/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Les indications des mesure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quantitatives du tissu osseux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Actualisation. Mars 2000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5" name="" descr=""/>
            <p:cNvPicPr/>
            <p:nvPr/>
          </p:nvPicPr>
          <p:blipFill>
            <a:blip r:embed="rId3"/>
            <a:stretch/>
          </p:blipFill>
          <p:spPr>
            <a:xfrm>
              <a:off x="6858000" y="3665520"/>
              <a:ext cx="1676520" cy="82404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sp>
          <p:nvSpPr>
            <p:cNvPr id="276" name=""/>
            <p:cNvSpPr/>
            <p:nvPr/>
          </p:nvSpPr>
          <p:spPr>
            <a:xfrm>
              <a:off x="6590880" y="4648320"/>
              <a:ext cx="2323440" cy="52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00"/>
                  </a:solidFill>
                  <a:latin typeface="Times New Roman"/>
                </a:rPr>
                <a:t>XV</a:t>
              </a:r>
              <a:r>
                <a:rPr b="1" lang="fr-FR" sz="1400" spc="-1" strike="noStrike" baseline="30000">
                  <a:solidFill>
                    <a:srgbClr val="ffff00"/>
                  </a:solidFill>
                  <a:latin typeface="Times New Roman"/>
                </a:rPr>
                <a:t>ème</a:t>
              </a:r>
              <a:r>
                <a:rPr b="1" lang="fr-FR" sz="1400" spc="-1" strike="noStrike">
                  <a:solidFill>
                    <a:srgbClr val="ffff00"/>
                  </a:solidFill>
                  <a:latin typeface="Times New Roman"/>
                </a:rPr>
                <a:t> Journée scientifiqu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00"/>
                  </a:solidFill>
                  <a:latin typeface="Times New Roman"/>
                </a:rPr>
                <a:t>du  - PARIS 11 janvier 20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aitem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439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Meilleur traitement = équilibre glycémique ++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TH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Améliore l’insulino- secrétion et diminue l’insulino- résist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Polémique: augmentation du risque d’IDM et d’AVC ( +29 %) et de Kc du sein ( +26 %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(Women's Health Initiative Study. </a:t>
            </a:r>
            <a:r>
              <a:rPr b="0" i="1" lang="fr-FR" sz="1400" spc="-1" strike="noStrike">
                <a:solidFill>
                  <a:srgbClr val="ffff00"/>
                </a:solidFill>
                <a:latin typeface="Times New Roman"/>
              </a:rPr>
              <a:t>Jama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, juillet, 2002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SERM’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Bisphosphonate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Aucune donnée actuelle, absence d’AMM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PTH: résultats prometteu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Lutte contre facteur de risque de chute. +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376280" y="4060800"/>
            <a:ext cx="1971720" cy="22478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6551640" y="3527280"/>
            <a:ext cx="1981080" cy="27813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6505560" y="6437160"/>
            <a:ext cx="23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Facteurs de risque de chu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47240" y="643716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Traitements de l’ostéoporo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404640"/>
            <a:ext cx="7772400" cy="47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Trois stades ont été décrits : 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Grg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Stade I :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atteinte d’un doigt, généralement du V, unilatér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Stade II :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atteinte de deux doigts ou plus, essentiellement IV et V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Stade III :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atteinte de tous les doigts des deux mains et d’une grosse articulation ( poignet ou coud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Évaluation quali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Manœuvre de la prière ou de la main posée sur la t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Évaluation quantitative : mesure de la flexion maximale de la 3° et 5° MCP et du poign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L’enraidissement peut être constaté aux  niveau des coudes, épaules, poignets, hanches et chevil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238880" y="3962520"/>
            <a:ext cx="18367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adiographi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calcifications vasculaires, érosions articulai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pillaroscopi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bsence des méga-capillai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aisse de la densité des capillaires, dystrophie en 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bancs de poisson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pécifique de la microangiopathie diabétiqu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iopsie cutané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: fibrose dermiqu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oration PA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augmentation de l’épaisseur des membranes basa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68360" y="333360"/>
          <a:ext cx="8207280" cy="2209680"/>
        </p:xfrm>
        <a:graphic>
          <a:graphicData uri="http://schemas.openxmlformats.org/drawingml/2006/table">
            <a:tbl>
              <a:tblPr/>
              <a:tblGrid>
                <a:gridCol w="1641600"/>
                <a:gridCol w="1641240"/>
                <a:gridCol w="1641600"/>
                <a:gridCol w="1641240"/>
                <a:gridCol w="164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us sta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de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de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de 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bétiques n=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émoins n=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&lt;0,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&lt;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1813680" y="2657520"/>
            <a:ext cx="565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réquence de la CA chez des diabétiques et des témoi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10160" y="3052800"/>
            <a:ext cx="352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Poirier JL. </a:t>
            </a:r>
            <a:r>
              <a:rPr b="0" i="1" lang="fr-FR" sz="1400" spc="-1" strike="noStrike">
                <a:solidFill>
                  <a:srgbClr val="ffff00"/>
                </a:solidFill>
                <a:latin typeface="Times New Roman"/>
              </a:rPr>
              <a:t>Rev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fr-FR" sz="1400" spc="-1" strike="noStrike">
                <a:solidFill>
                  <a:srgbClr val="ffff00"/>
                </a:solidFill>
                <a:latin typeface="Times New Roman"/>
              </a:rPr>
              <a:t>Rhum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, 1989, 56 (7), 511-517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4076640"/>
            <a:ext cx="871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La CA est corrélée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à la durée du diabète.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(Gamstedt A. </a:t>
            </a:r>
            <a:r>
              <a:rPr b="0" i="1" lang="fr-FR" sz="1400" spc="-1" strike="noStrike">
                <a:solidFill>
                  <a:srgbClr val="ffff00"/>
                </a:solidFill>
                <a:latin typeface="Times New Roman"/>
              </a:rPr>
              <a:t>J. Intern. Med,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 1993, 234, 189-193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à un mauvais équilibre glycémique : le risque de survenue de 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X  </a:t>
            </a:r>
            <a:r>
              <a:rPr b="1" lang="fr-FR" sz="1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2 ,55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quand l’Hb glyquée &gt; 8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X  </a:t>
            </a:r>
            <a:r>
              <a:rPr b="1" lang="fr-FR" sz="1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4,54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quand l’Hb glyquée &gt; 12 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(Silverstein JH. </a:t>
            </a:r>
            <a:r>
              <a:rPr b="0" i="1" lang="en-US" sz="1400" spc="-1" strike="noStrike">
                <a:solidFill>
                  <a:srgbClr val="ffff00"/>
                </a:solidFill>
                <a:latin typeface="Times New Roman"/>
              </a:rPr>
              <a:t>Journal of Pediatrics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, 1998, 132, 944 -7)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3160" y="189000"/>
            <a:ext cx="50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 CA est corrélée aux complications dégénéra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2864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1280" y="700200"/>
            <a:ext cx="8964720" cy="43131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3870720" y="6219720"/>
            <a:ext cx="522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Fernando D.J.S</a:t>
            </a:r>
            <a:r>
              <a:rPr b="0" i="1" lang="en-US" sz="1400" spc="-1" strike="noStrike">
                <a:solidFill>
                  <a:srgbClr val="ffff00"/>
                </a:solidFill>
                <a:latin typeface="Times New Roman"/>
              </a:rPr>
              <a:t>. British Journal of Rheumatology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, 1997, 36, 374-376.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4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Le diagnostic différentiel :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Camptodactylie par fibrose liée à l’activité professionnelle ( microtraumatismes). Seul le stade III est considéré comme spécifique du diabétiqu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clérodermie et CREST : nécrose pulpaire, téléangiéctasies, sclérodactylie, phénomène de raynau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Algodystroph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Le traitement est mal codifié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Meilleur équilibre glycémiq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Rééducation mobilisatrice visant à restaurer une certaine souplesse et un gain d’extens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5:30:15Z</dcterms:created>
  <dc:creator>gggggg*</dc:creator>
  <dc:description/>
  <dc:language>en-US</dc:language>
  <cp:lastModifiedBy>Abdellah</cp:lastModifiedBy>
  <dcterms:modified xsi:type="dcterms:W3CDTF">2004-02-22T12:26:33Z</dcterms:modified>
  <cp:revision>85</cp:revision>
  <dc:subject/>
  <dc:title>MANIFESTATIONS RHUMATOLOGIQUES DU DIABÈTE. </dc:title>
</cp:coreProperties>
</file>